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F50-6581-443E-B56B-227072E5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7D5-7CEC-4348-A167-3240515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FB2-BB9B-400F-BDEE-5EBA20B1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26D-484D-4C38-BD53-1EC31723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DBA-59EB-43CC-9063-1C70FBA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5F1-034E-486C-AA96-0467BD14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935-B87F-4A8B-B0D2-A68BD88A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1C4-808A-4B8F-A61E-5649F05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E22-30AF-431F-96E3-AD833DFC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CF7-A0AF-4A98-8CD7-DCEA207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4DF-F253-4434-867F-245FAC9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7D3-3083-4D8F-8C72-2B0391B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0EA-4924-4EBE-8A6A-74339FC397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4480" y="251460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88620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3080" y="5410080"/>
            <a:ext cx="1524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9000" y="30492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09Z</dcterms:modified>
  <cp:revision>179</cp:revision>
  <dc:subject/>
  <dc:title>Slide 1</dc:title>
</cp:coreProperties>
</file>